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C50-B17E-4C37-B3D7-06E05405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D2B-2CD9-41AD-9B28-95B0E6EE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35B-3E35-44C8-A9F7-3FEF9F53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C4E-DD77-44EF-AF5F-712FCB64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758-E405-4A3E-9357-93C99B8B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F74-7743-407E-B598-AE1EB179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6D3-B5DF-4480-8D99-62727F5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227-40D9-47B4-8E67-2D9E40B4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E28-0802-4715-8861-9E13728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D74-3A43-4846-AF96-1E458769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65D-1DAB-4C2B-B41A-E32C1ED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514-AC4C-4797-9D33-00BDF0C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6606-5525-4DDF-AB42-4C051BF33A1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2920" y="281952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ORNILLO SIN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infin%20Fact%20Km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924280"/>
          </a:xfrm>
          <a:prstGeom prst="rect">
            <a:avLst/>
          </a:prstGeom>
          <a:ln w="0">
            <a:noFill/>
          </a:ln>
        </p:spPr>
      </p:pic>
      <p:pic>
        <p:nvPicPr>
          <p:cNvPr id="126" name="Sinfin%20Fact%20Kv" descr=""/>
          <p:cNvPicPr/>
          <p:nvPr/>
        </p:nvPicPr>
        <p:blipFill>
          <a:blip r:embed="rId2"/>
          <a:stretch/>
        </p:blipFill>
        <p:spPr>
          <a:xfrm>
            <a:off x="1447920" y="3181320"/>
            <a:ext cx="6172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59480" y="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295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2440" y="12952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29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480" y="1295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514600"/>
            <a:ext cx="64008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nfin%20Relaciones" descr=""/>
          <p:cNvPicPr/>
          <p:nvPr/>
        </p:nvPicPr>
        <p:blipFill>
          <a:blip r:embed="rId1"/>
          <a:stretch/>
        </p:blipFill>
        <p:spPr>
          <a:xfrm>
            <a:off x="0" y="457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5640" y="114300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5120" y="236232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9840" y="327672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640" y="4032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267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120" y="5305320"/>
            <a:ext cx="345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dientes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entradas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0840" y="5305320"/>
            <a:ext cx="3723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6320" y="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gulos de presión de avance y alturas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infin%20AngAvance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96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fin%20Fzas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95040" y="457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5200" y="91440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5120" y="1371600"/>
            <a:ext cx="27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0240" y="206388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39320" y="259092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240" y="3124080"/>
            <a:ext cx="22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6920" y="3886200"/>
            <a:ext cx="5304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: fuerza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omponentes ortogonales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5400" y="45720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1240" y="167652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0600" y="213372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50160" y="2590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6160" y="357516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800" y="3276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360" y="3809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809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5880" y="487692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5680" y="457200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4960" y="510552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105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3720" y="152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Ren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4600" y="83808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600" y="129528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480" y="2050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520" y="2514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828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1148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8006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1814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267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95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814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" y="518112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257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744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040" y="4648320"/>
            <a:ext cx="4551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nfin%20Rend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14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5400" y="107316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2120" y="167652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6400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ancho de car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: factor d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tamaño 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infin%20Fact%20y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562720" cy="2257200"/>
          </a:xfrm>
          <a:prstGeom prst="rect">
            <a:avLst/>
          </a:prstGeom>
          <a:ln w="0">
            <a:noFill/>
          </a:ln>
        </p:spPr>
      </p:pic>
      <p:pic>
        <p:nvPicPr>
          <p:cNvPr id="124" name="Sinfin%20Fact%20k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81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5:59:35Z</dcterms:modified>
  <cp:revision>160</cp:revision>
  <dc:subject/>
  <dc:title>Sin título de diapositiva</dc:title>
</cp:coreProperties>
</file>